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30EE-DBAE-42ED-B7AB-09E71D2C0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02EA-543C-4D74-8584-156F2A1F74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15B-3088-441F-BDDF-2F6554AB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F88-2F8B-4CC3-BFF8-80A859E1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E91-4909-4D21-8AEE-CB3FD5A5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3F9-EBFA-40B2-B4EF-BBB901A9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F25-2419-4C43-B0C4-A67513BE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B5C-1DF6-477C-8215-1F4A925B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77A-18D8-4AB3-8234-CEE022F2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DC5-E66F-4BE4-9194-E49BBD07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A12-F97C-4F6E-8C31-730CA2AA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5D4-52D3-40E1-B822-F9D53558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AAF-AD1B-4ED9-AB34-5BFC471B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C22-594C-4AAE-B709-BC48DA75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D1B9-1A8B-431E-B44F-E701B4075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tra.ru/biography/get/biid/00753731190800243808" TargetMode="External"/><Relationship Id="rId2" Type="http://schemas.openxmlformats.org/officeDocument/2006/relationships/hyperlink" Target="http://www.cofe.ru/read-ka/article.asp?heading=87&amp;article=8769" TargetMode="External"/><Relationship Id="rId3" Type="http://schemas.openxmlformats.org/officeDocument/2006/relationships/hyperlink" Target="http://www.proza.ru/pics/2010/06/30/266.jpg" TargetMode="External"/><Relationship Id="rId4" Type="http://schemas.openxmlformats.org/officeDocument/2006/relationships/hyperlink" Target="http://www.surwiki.ru/wiki/images/9/91/&#1044;&#1086;&#1084;%2C_&#1074;_&#1082;&#1086;&#1090;&#1086;&#1088;&#1086;&#1084;_&#1078;&#1080;&#1083;_&#1077;&#1088;&#1096;&#1086;&#1074;_&#1074;_1862-1869&#1075;&#1075;.jpg" TargetMode="External"/><Relationship Id="rId5" Type="http://schemas.openxmlformats.org/officeDocument/2006/relationships/hyperlink" Target="http://chron.eduhmao.ru/img_1_14_1_1.jpeg" TargetMode="External"/><Relationship Id="rId6" Type="http://schemas.openxmlformats.org/officeDocument/2006/relationships/hyperlink" Target="http://upload.wikimedia.org/wikipedia/commons/4/4b/Bryullov_portrait_of_Zhukovsky.jpg" TargetMode="External"/><Relationship Id="rId7" Type="http://schemas.openxmlformats.org/officeDocument/2006/relationships/hyperlink" Target="http://upload.wikimedia.org/wikipedia/commons/5/56/Kiprensky_Pushkin.jpg" TargetMode="External"/><Relationship Id="rId8" Type="http://schemas.openxmlformats.org/officeDocument/2006/relationships/hyperlink" Target="http://upload.wikimedia.org/wikipedia/commons/8/8d/MendeleevDI_Jaroishenko_1886.jpg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графия и творчество </a:t>
            </a:r>
            <a:br>
              <a:rPr sz="44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шова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а Павловича</a:t>
            </a: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к уроку литературного чтения 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4 класс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Любой УМК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71680" y="150012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428920" y="59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Музей Ершова в г. Иш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83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в Тоболь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756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litra.ru/biography/get/biid/007537311908002438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cofe.ru/read-ka/article.asp?heading=87&amp;article=87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proza.ru/pics/2010/06/30/26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surwiki.ru/wiki/images/9/91/%D0%94%D0%BE%D0%BC%2C_%D0%B2_%D0%BA%D0%BE%D1%82%D0%BE%D1%80%D0%BE%D0%BC_%D0%B6%D0%B8%D0%BB_%D0%B5%D1%80%D1%88%D0%BE%D0%B2_%D0%B2_1862-1869%D0%B3%D0%B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chron.eduhmao.ru/img_1_14_1_1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ский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upload.wikimedia.org/wikipedia/commons/4/4b/Bryullov_portrait_of_Zhukovsk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upload.wikimedia.org/wikipedia/commons/5/56/Kiprensky_Pushk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делее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upload.wikimedia.org/wikipedia/commons/8/8d/MendeleevDI_Jaroishenko_1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rwiki.ru/wiki/images/a/a7/%D0%95%D1%80%D1%88%D0%BE%D0%B2_%D0%BC%D1%83%D0%B7%D0%B5%D0%B909_0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rwiki.ru/wiki/images/4/45/%D0%9F%D0%B0%D0%BC%D1%8F%D1%82%D0%BD%D0%B8%D0%BA_%D0%B5%D1%80%D1%88%D0%BE%D0%B2%D1%83_%D0%B2_%D1%82%D0%BE%D0%B1%D0%BE%D0%BB%D1%8C%D1%81%D0%BA%D0%B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obolsk.clan.su/_ph/4/2/32007377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lexgetti.narod.ru/imgu61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vlavochke.ru/upload/iblock/f3b/f3bf08aec57c074dcfd989a99e4d7a5f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ётр Павл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ш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>
            <a:hlinkClick r:id="rId1" action="ppaction://hlinksldjump"/>
          </p:cNvPr>
          <p:cNvSpPr/>
          <p:nvPr/>
        </p:nvSpPr>
        <p:spPr>
          <a:xfrm>
            <a:off x="4859280" y="1916280"/>
            <a:ext cx="46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15 г. – 186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76884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>
            <a:hlinkClick r:id="rId1" action="ppaction://hlinksldjump"/>
          </p:cNvPr>
          <p:cNvSpPr/>
          <p:nvPr/>
        </p:nvSpPr>
        <p:spPr>
          <a:xfrm>
            <a:off x="179280" y="0"/>
            <a:ext cx="896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 22 февраля 1815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Безруково Ишимского уезда Тобольской губернии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мелкого чиновн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5132520" cy="3722400"/>
          </a:xfrm>
          <a:prstGeom prst="rect">
            <a:avLst/>
          </a:prstGeom>
          <a:ln w="1260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1830 году окончил Тобольскую гимназ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67560" cy="4591080"/>
          </a:xfrm>
          <a:prstGeom prst="rect">
            <a:avLst/>
          </a:prstGeom>
          <a:ln w="1584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18900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Ершов П.П. в 1831-1834 гг. учи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на философско-юридическом факультете Петербургского универс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8323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714240" y="285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университете знакомится 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.А. Жуковским и А.С. Пушки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39640" y="2119320"/>
            <a:ext cx="3527640" cy="428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859280" y="2133720"/>
            <a:ext cx="36352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714240" y="285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Его учеником в Тобольской гимназии был Менделеев Д.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429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роизведение Ершова П.П. </a:t>
            </a:r>
            <a:br>
              <a:rPr sz="4000"/>
            </a:b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дл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976480" cy="415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2710080" cy="364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2813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Умер 30 августа 1869 г. в Тобольске. Похоронен на тобольском Завальном кладбище</a:t>
            </a:r>
            <a:br>
              <a:rPr sz="3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16836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8:58:10Z</dcterms:created>
  <dc:creator>Galina</dc:creator>
  <dc:description/>
  <dc:language>en-US</dc:language>
  <cp:lastModifiedBy>Galina</cp:lastModifiedBy>
  <dcterms:modified xsi:type="dcterms:W3CDTF">2011-08-22T19:14:35Z</dcterms:modified>
  <cp:revision>100</cp:revision>
  <dc:subject/>
  <dc:title>Биография и творчество  Фёдора Ивановича Тютчева  3 класс 1 полугодие УМК «Школа России» </dc:title>
</cp:coreProperties>
</file>